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7983-8A04-4B59-BA86-F5ED9E62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C24-D3B3-4EAD-8F74-09449022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62B7C-276E-4C8A-82E1-3317F12D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30F10-9BF9-4FA6-9ACD-110A0C0F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B3B4A-C6B2-41C5-9C33-EB400C39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B9AFF-F7BF-43B0-8467-CB502051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E8E53-9096-4241-85BF-F92B3283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CF0B9-3E66-41EA-8945-7FB3CACC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0DF15-978C-4238-9A44-41CD4E15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69479-1EC7-44F1-B360-9A5955B6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0CFBA-D457-4927-9739-219FD470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70264-641B-48F2-82BE-E8C51F9E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033F-29AB-4F97-8F25-98C3942A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26428-36F7-4CEF-984D-A29EE185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AE756-BF17-4A20-AC67-8AFA93D7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6BA0D-C647-4F7A-8CB5-1968A95F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C3F67-559F-4A98-AE06-9E3B004D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68F3B-0405-446D-BDAC-BA74F915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DA761-0E8F-4A61-A216-6994F3B9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00966-1ED4-437C-9F09-2968D824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E79CB-0DE2-4FD5-B3DE-35D41B19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F61B9-D0F3-4654-8083-FB6BAB17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2F2EF-51AC-49B5-8715-7901E69C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C31A-E6AA-4064-8268-F426DB57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C36B6-BA35-47F9-B3A7-D85CBC6B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E597-0C82-4839-B4FB-9ADA092D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E73A-7E04-46EC-9E87-94959C2E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4F06-06D7-4B36-865E-D80FAAF0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DDA7-22DC-43B4-9118-B877CFB7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B33D-C32C-4E07-8633-14410A8D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4989-CEF9-49B3-85AD-D72CFD77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BF01-EA12-4369-AD93-3BCF0AA4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53AA-95D2-475B-B8E2-DCF93B05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4C07-AE57-4BC2-8759-A6E9C861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3475-1CF1-46F4-AC54-008D05A6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CBF6-741B-42EF-AE0B-C6E51E8E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8456-BAD5-4E20-86C0-7D0C198C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7D59-339F-47E0-9046-46768639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F8025-72C6-469C-8A2B-C5F6479C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54C01-FFE2-45B0-B26D-C850CE1C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2C71C-3599-4BD1-A7ED-317A3D66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65089-4025-4C7C-92AD-4A8E9B1F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20D0B-63EC-4054-997C-3E2704C8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C09-613C-4663-A09C-33BD4261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F8C93-A5A6-4691-9971-23C43F7B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F0199-A281-485F-BADD-9A6539B7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ADBEA-B903-43B5-A565-78A73682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F9852-0497-47CC-A84A-E86C44CB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D1854-0B5F-480F-8B3B-CD1CE06A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ABFFB-CFC9-4E7E-A9A5-ECA9BE5F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C24EB-4362-4879-9322-24D82D7D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2D8C1-7250-4A58-8147-5E34E5D5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3A0DF-FACD-4481-A2BF-98A25040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ED7B0-1C2B-43A0-9277-EB455E1E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9FB-A3DC-4421-8D59-9F4DB62E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773AE-98CC-4619-8430-DAFC633A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889FE-843E-4F74-BC63-DA49AB60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2AACB-A7FE-4A4B-A612-3E169B25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204BE-945A-4763-91B6-2326123E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889B8-D554-4469-A33D-4ECE5D85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54119-E8D5-4DF8-9535-72F46B57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4EAF9-F99C-4B6B-990F-C9B181C9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9551B-5829-4C59-B3D6-EEF00FB7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5A5C8-EAE1-4F8B-A7CE-4E5E0DAD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AFD6B-229E-46D4-99AE-8D5024DC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928-92C2-45AF-9B53-B7375A64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D9679-5B3B-4021-9676-EC85FED8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9CE23-8A90-4452-A618-175140B0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62DC2-747B-4994-B44D-E176FA51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6566E-F75C-41DA-A81B-75794ACE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41C32-6648-46E4-BB87-499CCBEF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52AA5-26D1-42E2-B0C6-9091D2A5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E0E98-6585-4506-9BB5-6D6ADE41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0DDA9-5C0B-440F-B3AB-6F58E86B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7C00E-D765-41AA-9091-75683072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79858-CBEF-4845-A6B5-1D3B0FDA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B01-8D03-4AB9-9475-9A7B153F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B16AF-FA85-4015-86AB-7468A685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8A19A-471E-4830-A0DE-34F65CF2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63429-4A84-42BC-984D-6AC3FCEC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8CDFA-C11B-499D-8DAE-CB64D6D0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92704-5F22-462C-AC3C-C409364F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192A2-8938-47A4-B35D-D12337F3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BD118-B726-4612-8325-B09E306B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CDCB9-4F6B-4E93-BBDE-B770AAD5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46A6B-7597-4C8D-A277-D0A8BA3B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7721A-F77E-4131-AEBB-BE4093E7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DD4-0686-46A0-B0EB-E2BABEE4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26B72-F821-453D-950A-42169635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28384-7536-474B-A953-F0E6289D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6A3F9-0D0F-4A14-B09F-420FB0E8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11A08-6BB5-4CA0-996B-DE47059C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7C17F-D90E-490E-97E1-A3CE93F8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B7128-AB91-41E9-BF31-CB9FD027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C508E-C4A7-4C25-BC2A-964D0ED6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4FF0B-4DC7-4DF4-90D9-7395D0C2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FACA4-DFEF-4143-AABC-AC74549A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E68EA-2BF1-40F7-8ECF-42E3B886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330-6614-4B6C-93C5-D4FBDCCD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7D709-347A-440B-B200-F02DCCA3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58023-B856-4019-9D82-030EA0FB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E74DC-9EA7-4D70-8244-E5E504A1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B465B-9088-4498-93EB-F7024345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28890-1296-4C37-9468-FC9C685D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E61D8-D418-49A7-B08C-D892D756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82199-80FB-43A6-9E60-22C1A72E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67C59-CF3D-444C-82C3-7F003DCB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0BDB6-22DF-463D-B991-5EB8A1FA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A9355-E8AE-43EE-9EE4-8E946F89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6A7-11E5-476B-B07D-A753C894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F378E-0991-4DA8-84DB-45BF4161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7C4BF-B066-45AE-AA87-AE27DC36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06BA2-9B9D-4D48-BA17-0DBFD31F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46E7B-85B9-4F63-AA92-C4EAC8E9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7546F-6777-43C3-B368-C82195C8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7FD60-3BCE-4EBE-BE7C-BF44A467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E3D24-600A-48E0-B469-F5BF9E76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8F2A8-EA6C-4875-A893-15A403DB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45086-3A34-452F-B2ED-EE1E6C17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CA659-D250-4B5E-89C1-F193718A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83F3B-F37C-46D2-BE67-A620703D740A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6F601-6D5B-4AD2-A295-A16B34682D7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E7DDC-8864-4AA5-81FF-78521AF76293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8E54B-C2F4-4160-BE59-AA4BE81F3FDE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89219-64EB-40BD-BA2E-E7E15F62699A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6F99F-7F15-4EBE-A7A6-38CD390D1DD2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83BBC-FCFE-4E10-901F-E6F4C8C2085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1A202-2BC6-4BE3-A0C9-617D0FED9BF3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F4473-4410-4A9F-8685-609AF80651BD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547BB-1D27-4BCB-863A-126AB037C21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000" y="-515880"/>
            <a:ext cx="9070920" cy="2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400"/>
            </a:br>
            <a:r>
              <a:rPr b="1" lang="fi-FI" sz="5400" spc="-1" strike="noStrike">
                <a:solidFill>
                  <a:srgbClr val="ccccff"/>
                </a:solidFill>
                <a:latin typeface="Arial"/>
              </a:rPr>
              <a:t>MA FAMILLE</a:t>
            </a:r>
            <a:br>
              <a:rPr sz="5400"/>
            </a:b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ma famil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es grands-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on grand-p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 grand-m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es petits-enf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on petit-f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 petite-f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es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on p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a m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es enf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on f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a f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ma famil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on fr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 so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on nev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 niè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on on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a 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on cou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a cou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ma famille (politique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9280" y="1979640"/>
            <a:ext cx="44262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es beaux-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 belle-m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on beau-p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es beaux-enf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on beau-f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 belle-f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292720" y="1800000"/>
            <a:ext cx="442584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on beau-fr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a belle-so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5400" spc="-1" strike="noStrike">
                <a:solidFill>
                  <a:srgbClr val="ffffff"/>
                </a:solidFill>
                <a:latin typeface="Arial"/>
              </a:rPr>
              <a:t>la famille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02920" y="1805040"/>
            <a:ext cx="9070920" cy="554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Arial"/>
              </a:rPr>
              <a:t>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Voici ma fami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Je cherche une famill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Tu as des frères ou des soe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J'ai deux soe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Je n'ai pas de frères ni de soe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Je suis fille (fils) uni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Regarde la pho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5400" spc="-1" strike="noStrike">
                <a:solidFill>
                  <a:srgbClr val="ffffff"/>
                </a:solidFill>
                <a:latin typeface="Arial"/>
              </a:rPr>
              <a:t>Adj</a:t>
            </a:r>
            <a:r>
              <a:rPr b="1" i="1" lang="fi-FI" sz="5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fi-FI" sz="5400" spc="-1" strike="noStrike">
                <a:solidFill>
                  <a:srgbClr val="ffffff"/>
                </a:solidFill>
                <a:latin typeface="Arial"/>
              </a:rPr>
              <a:t>Possessifs</a:t>
            </a:r>
            <a:r>
              <a:rPr b="1" i="1" lang="fi-FI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fi-FI" sz="3200" spc="-1" strike="noStrike">
                <a:solidFill>
                  <a:srgbClr val="ffffff"/>
                </a:solidFill>
                <a:latin typeface="Arial"/>
              </a:rPr>
              <a:t>(ma famill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539640" y="1800360"/>
          <a:ext cx="9137880" cy="1260360"/>
        </p:xfrm>
        <a:graphic>
          <a:graphicData uri="http://schemas.openxmlformats.org/drawingml/2006/table">
            <a:tbl>
              <a:tblPr/>
              <a:tblGrid>
                <a:gridCol w="1544760"/>
                <a:gridCol w="3835440"/>
                <a:gridCol w="3757680"/>
              </a:tblGrid>
              <a:tr h="12603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i-FI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ie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i-FI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i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720720" y="3060720"/>
          <a:ext cx="8778960" cy="2158920"/>
        </p:xfrm>
        <a:graphic>
          <a:graphicData uri="http://schemas.openxmlformats.org/drawingml/2006/table">
            <a:tbl>
              <a:tblPr/>
              <a:tblGrid>
                <a:gridCol w="1339920"/>
                <a:gridCol w="1968480"/>
                <a:gridCol w="1942920"/>
                <a:gridCol w="3527640"/>
              </a:tblGrid>
              <a:tr h="71964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/Elle/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720720" y="5219640"/>
          <a:ext cx="8829720" cy="1438200"/>
        </p:xfrm>
        <a:graphic>
          <a:graphicData uri="http://schemas.openxmlformats.org/drawingml/2006/table">
            <a:tbl>
              <a:tblPr/>
              <a:tblGrid>
                <a:gridCol w="1364760"/>
                <a:gridCol w="3912480"/>
                <a:gridCol w="3552480"/>
              </a:tblGrid>
              <a:tr h="48024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/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6:04:39Z</dcterms:created>
  <dc:creator>Usuario guadalinex</dc:creator>
  <dc:description/>
  <dc:language>en-US</dc:language>
  <cp:lastModifiedBy>Usuario guadalinex</cp:lastModifiedBy>
  <dcterms:modified xsi:type="dcterms:W3CDTF">2010-11-13T18:24:57Z</dcterms:modified>
  <cp:revision>9</cp:revision>
  <dc:subject/>
  <dc:title/>
</cp:coreProperties>
</file>